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9A3D-FA5D-4B56-8F4F-61ABFE3A2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FD31-CCB9-4120-928C-9906E81B0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DD50-6437-4485-9F43-F4CFAF33E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1FAD-4475-4C05-A785-73DCE54DD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CC227-F4B5-43E0-B3C6-C92AD4FD2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F1098-81C0-44A2-8BE5-B5D415C81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E11D1-B2B1-4CE3-AD8D-FB3595C7F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5CC15-D74B-4B42-9A6D-0F890485B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DFEDF-7385-485C-B1E1-F616E4435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87272-1A6B-4803-923A-ECC8EDFB7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68A7C-D447-4C6B-A0F9-252C3319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8248-8C23-4254-B2E8-E0985A9D9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A700D-AC47-4305-BF92-0FCCF2D46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EDEFF-27A6-42A9-AC10-7BF9FAEC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0C933-B06D-4BC0-9912-618E266FE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DBD97-FAAD-48A1-958A-E129BC01F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EFAA6-1B51-478E-B5C6-269299A36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B929-D0F5-45D9-A33B-63B6AE4D7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C610-755E-40FB-A611-74E3AC264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C854-0EC8-4468-9C91-2AEE3858D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6D8B-9940-476A-8AA3-E3360E63A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3661-9FFB-4109-AEEE-2EF5B90CB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4792-4EE4-4A15-B130-C9D6F760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A03D-3067-474C-B1AA-50573079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79FBE-69E7-4750-9F57-B5E515ACA9F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1FF36-7FE7-480F-83DC-506FAF15078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b2b2b2"/>
                </a:solidFill>
                <a:latin typeface="Times New Roman"/>
              </a:rPr>
              <a:t>EARTH</a:t>
            </a:r>
            <a:endParaRPr b="0" lang="en-US" sz="10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14368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b2b2b2"/>
                </a:solidFill>
                <a:latin typeface="Times New Roman"/>
              </a:rPr>
              <a:t>Slide 8</a:t>
            </a:r>
            <a:endParaRPr b="0" lang="en-US" sz="9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neral                         Crys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3962520" cy="2792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809880" y="2057400"/>
            <a:ext cx="4800600" cy="33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b2b2b2"/>
                </a:solidFill>
                <a:latin typeface="Times New Roman"/>
              </a:rPr>
              <a:t>Slide 9</a:t>
            </a:r>
            <a:endParaRPr b="0" lang="en-US" sz="9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nerals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752480" y="2209680"/>
            <a:ext cx="583740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b2b2b2"/>
                </a:solidFill>
                <a:latin typeface="Times New Roman"/>
              </a:rPr>
              <a:t>Slide 10</a:t>
            </a:r>
            <a:endParaRPr b="0" lang="en-US" sz="9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dimentary Ro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971800" y="2590920"/>
            <a:ext cx="3333600" cy="25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b2b2b2"/>
                </a:solidFill>
                <a:latin typeface="Times New Roman"/>
              </a:rPr>
              <a:t>Slide 11</a:t>
            </a:r>
            <a:endParaRPr b="0" lang="en-US" sz="9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gneous ro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14600" y="2438280"/>
            <a:ext cx="412416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b2b2b2"/>
                </a:solidFill>
                <a:latin typeface="Times New Roman"/>
              </a:rPr>
              <a:t>Slide 12</a:t>
            </a:r>
            <a:endParaRPr b="0" lang="en-US" sz="9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tamorphic ro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981080" y="2438280"/>
            <a:ext cx="5133960" cy="41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b2b2b2"/>
                </a:solidFill>
                <a:latin typeface="Times New Roman"/>
              </a:rPr>
              <a:t>Slide 1</a:t>
            </a:r>
            <a:endParaRPr b="0" lang="en-US" sz="9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219320" y="2286000"/>
            <a:ext cx="662940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b2b2b2"/>
                </a:solidFill>
                <a:latin typeface="Times New Roman"/>
              </a:rPr>
              <a:t>Slide 2</a:t>
            </a:r>
            <a:endParaRPr b="0" lang="en-US" sz="9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686800" y="6130440"/>
            <a:ext cx="76320" cy="4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114800" y="1838160"/>
            <a:ext cx="4876920" cy="26355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3041640" cy="38005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3276720" y="4605480"/>
            <a:ext cx="2895480" cy="22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b2b2b2"/>
                </a:solidFill>
                <a:latin typeface="Times New Roman"/>
              </a:rPr>
              <a:t>Slide 3</a:t>
            </a:r>
            <a:endParaRPr b="0" lang="en-US" sz="9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133720" y="1752480"/>
            <a:ext cx="5638680" cy="49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b2b2b2"/>
                </a:solidFill>
                <a:latin typeface="Times New Roman"/>
              </a:rPr>
              <a:t>Slide 4</a:t>
            </a:r>
            <a:endParaRPr b="0" lang="en-US" sz="9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048120" y="1752480"/>
            <a:ext cx="3431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b2b2b2"/>
                </a:solidFill>
                <a:latin typeface="Times New Roman"/>
              </a:rPr>
              <a:t>Slide 5</a:t>
            </a:r>
            <a:endParaRPr b="0" lang="en-US" sz="9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iding Boundaries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828800" y="2286000"/>
            <a:ext cx="548640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b2b2b2"/>
                </a:solidFill>
                <a:latin typeface="Times New Roman"/>
              </a:rPr>
              <a:t>Slide 6</a:t>
            </a:r>
            <a:endParaRPr b="0" lang="en-US" sz="9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cus and Epicenter       Magnitude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4038480" cy="26175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952880" y="2209680"/>
            <a:ext cx="2853000" cy="28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b2b2b2"/>
                </a:solidFill>
                <a:latin typeface="Times New Roman"/>
              </a:rPr>
              <a:t>slide 6 still</a:t>
            </a:r>
            <a:endParaRPr b="0" lang="en-US" sz="9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arthquake in Japa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219320" y="2362320"/>
            <a:ext cx="653400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b2b2b2"/>
                </a:solidFill>
                <a:latin typeface="Times New Roman"/>
              </a:rPr>
              <a:t>Slide 7</a:t>
            </a:r>
            <a:endParaRPr b="0" lang="en-US" sz="9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523880" y="2057400"/>
            <a:ext cx="6172200" cy="44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4T17:59:02Z</dcterms:created>
  <dc:creator>mbifano</dc:creator>
  <dc:description/>
  <dc:language>en-US</dc:language>
  <cp:lastModifiedBy>mbifano</cp:lastModifiedBy>
  <dcterms:modified xsi:type="dcterms:W3CDTF">2011-03-17T18:05:50Z</dcterms:modified>
  <cp:revision>6</cp:revision>
  <dc:subject/>
  <dc:title>Slide 1</dc:title>
</cp:coreProperties>
</file>